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50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508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2DC8-186F-44F0-8524-70BC5FC0F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4AE5-0095-4349-8549-83D4FA95B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991A-DD51-445A-986D-661D60034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F62C-5281-446E-A64E-B78D84302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5991-3459-45FB-8524-3075B8E6E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6B30-25F6-47A1-BD63-A8C9ECB26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FE16-E03A-4124-818A-6AD21C5F7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BB30-EC1A-4B3A-ACAE-729918593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9AF8-651C-46FD-B79A-068604C05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9AF8-A0B9-48FD-98C4-A18E454CA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http://www.50states.com/ to find information about your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77D0-98FE-47D8-8125-49E0162A0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5AE8-81EB-4745-87A0-24D0B5DCA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1719-09F4-4A8C-968C-EA5C047C5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BC6B-609B-45EB-956B-B557C8C75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7A46-176D-40AC-A787-231599F72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0D7A-5A23-498D-B257-8476117E6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F700-13BB-45DD-A836-4B44D735B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8A0-BC1F-4540-8495-B4FB3A13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671-EB94-455A-AB82-B1C36892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54F-713C-4D56-866C-44629F05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6DD-6421-4BCF-B17B-503E1ADA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326-9EA3-432F-BF76-4F277FF8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326-2909-4C7F-ABC8-8A135970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681-DFC9-46CE-B7B4-30CCBE6A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945-1FAC-4CD5-AF13-04C62E65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E9E-24FD-4DC0-9C13-6C72A244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3B9-C7F7-4B58-AB33-E80D1910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F80-8D47-4106-86B6-AF9F1F47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924-C4BB-4DA1-88A5-E658B61E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2553-12B6-49DA-B0FB-2CC9B69D259A}" type="slidenum">
              <a:rPr b="0" lang="en-US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tat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ame of Your Stat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ic Location and Neighb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914400" y="2438280"/>
            <a:ext cx="7162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 of (State) is located in the ____________________ region of the United Stat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ist all the neighboring Stat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_______________________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of US Region (State) is located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905120" y="3276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lease place a map of the US region your State is located i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85800" y="1600200"/>
            <a:ext cx="6781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place in your state that would be interesting to visit.  Tell where they are located in the state and why it would be interesting to visit th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304920" y="6172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lace 1 of 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5800" y="1600200"/>
            <a:ext cx="67816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second and final place in your state that would be interesting to visit.  Tell where they are located in the state and why it would be interesting to visit th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57200" y="6095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lace 2 of 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14400" y="182880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ree well known residents of your state. Tell what they did to become famou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1981080"/>
            <a:ext cx="769644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space insert a political and/or physical map of your state.  The map must show the capital, name the major rivers and bodies of water, major landforms (mountains, plateaus, deserts etc.), and historical/tourist areas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38080" y="1828800"/>
            <a:ext cx="7086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ief products of the state includ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(farm) product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ng product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d good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62120" y="1752480"/>
            <a:ext cx="784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high temperature in July is _________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high temperature in January is __________.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yearly precipitation is _____________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1752480"/>
            <a:ext cx="79246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d describe a few different kinds of mineral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other resources such as forests, fishing or farming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creational Activities of (name of your sta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pro and college sports teams, and other various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mbols of (name of your sta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bird 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flower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tree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248520" y="3276720"/>
            <a:ext cx="1143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657600" y="5029200"/>
            <a:ext cx="1143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733920" y="198108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657600" y="50292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248520" y="3429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resources you used for your research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Fla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e the state flag here and give a brief explanation of what is on the fla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343400" y="3962520"/>
            <a:ext cx="35812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878720" y="488808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aste Flag he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at is the state’s nickname. Write a short explanation of how your state got this nickna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Mot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85800" y="1676520"/>
            <a:ext cx="7010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about the state motto and what makes this state speci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1447920"/>
            <a:ext cx="792504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First Inhabita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 major tribes of Native Americans that lived in this state. Include a few interesting facts about these peo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Explo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explorers visited your state and where did they come from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Settle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as the first settlement located in your state? Who started the settlement and why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History,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8080" y="1752480"/>
            <a:ext cx="7848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Colonial Day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state was one of the original thirteen colonies, explain what life was probably like during that tim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Territorial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state was a territory before it became a state, explain when the United States Congress created the territory. Explain how settlers were able to obtain land in the new territory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38080" y="1752480"/>
            <a:ext cx="784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ate became the ____ state in the United States in ____. The first governor of the state was _________.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Name of Your Sta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457200" y="137160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apital of (State) is _____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Abbreviation of (State) is _________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2010 Population of (State) is _____________________________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33520" y="5791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lease Add a Picture of the State Capita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38:09Z</dcterms:created>
  <dc:creator>Connie Campbell</dc:creator>
  <dc:description/>
  <dc:language>en-US</dc:language>
  <cp:lastModifiedBy>rdepiro</cp:lastModifiedBy>
  <cp:lastPrinted>2001-06-01T13:12:48Z</cp:lastPrinted>
  <dcterms:modified xsi:type="dcterms:W3CDTF">2011-06-07T14:02:34Z</dcterms:modified>
  <cp:revision>21</cp:revision>
  <dc:subject/>
  <dc:title>Our 50 States: [Name of Your State]</dc:title>
</cp:coreProperties>
</file>